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022-BDCD-450F-A823-2E12B4CC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487-A46E-4047-BF60-B3D2C321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C2D-5616-4885-B810-7286A1BC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443-A8BF-4E90-8F98-77D0F6FB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59D-2D94-4E4A-86A6-6BFF31EF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AC0-0115-4FE2-BFE1-36CC30D5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3F0-55BB-4FD1-8FF4-CA51B140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417-9677-4CC3-846B-2DFA88D9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000-CF7D-4FC6-89A5-E3A339B3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EAA-61D7-4526-9E41-33503AC2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0C2-B71A-427F-ADFB-50101452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2F1-527A-43AE-BB49-1B5CA45F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43D7-480D-4895-BD29-773FFE83C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09480"/>
            <a:ext cx="5105520" cy="382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it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view She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228600"/>
            <a:ext cx="449604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Fuel bu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Primary pollu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Emphysema, lung cancer, heart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sb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Increase risk of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Ra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Sick building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Noise 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sb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Sulfuric &amp; nitric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28600"/>
            <a:ext cx="449604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12. Nitrous &amp; sulfu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Less tha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Burning of fossil fu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Midwest &amp; easter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cid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Below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bo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ci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Chloroflurocarb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UV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 Rounded MT Bol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228600"/>
            <a:ext cx="449604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Ozone la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Montreal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Amphibi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Oz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Chlorofluorocarb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Greenhouse g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Melt/decre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Greenhouse 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Global wa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Greenhouse g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Kyoto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Carbon diox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 Rounded MT Bold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Rounded MT Bold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4:00:17Z</dcterms:created>
  <dc:creator>HASD</dc:creator>
  <dc:description/>
  <dc:language>en-US</dc:language>
  <cp:lastModifiedBy>HASD</cp:lastModifiedBy>
  <dcterms:modified xsi:type="dcterms:W3CDTF">2007-12-20T18:46:04Z</dcterms:modified>
  <cp:revision>2</cp:revision>
  <dc:subject/>
  <dc:title>PowerPoint Presentation</dc:title>
</cp:coreProperties>
</file>